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D7978-322B-47AF-9016-E76EC84BA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1660C-EA16-49E8-93F5-86775C2A8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0F5B9-06BA-4255-921C-286DE5FE9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6D2C7-717F-48EF-BB28-23F91E4C8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B9D93-B0CB-48AF-8AD0-1B7B66775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2DA88-900A-45CC-AD28-7CE41B166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4C42D-FB17-4D76-A5F2-55515EC79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70BC4-2587-4A61-9CDC-B813D607E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E82B2-733D-4485-92C8-59D6219C1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9BF37-563B-4FDA-B252-6E9FFD8E0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3B379-A3B5-471F-848A-49CCF08BE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1426F-8225-4B6F-9DFA-2CC563866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14773-2A91-4674-8681-ED19CFBF7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82614-4CF9-421C-BDF7-0D60D567B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72E25-A935-4200-B2A8-CD3D593AA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157BE-B2D9-4BF1-B4D7-64DB9EEEB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12475-9BB5-4153-942D-1DA885949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FFABB-1C5F-4215-9C35-0A49A0457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51309-59D5-442D-912D-DC88D5F9E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C9E8A-8538-499C-9A35-51BA732A9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FD8CB-B5C7-4A33-BD1D-2B544BDCB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FC64-AD6A-4A38-84F5-24783FC54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4B7C0-A3B3-47B3-A594-A52C8DBDA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37F63-85E8-40E7-96CD-FD94D951C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34A4-BAA4-45EE-ABAD-4E02729AFB4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6762-BBF8-4F77-9D8B-4E79FBDB794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OL</a:t>
            </a:r>
            <a:endParaRPr b="0" lang="en-US" sz="3600" spc="-1" strike="noStrike">
              <a:solidFill>
                <a:srgbClr val="006666"/>
              </a:solidFill>
              <a:latin typeface="Arial"/>
            </a:endParaRPr>
          </a:p>
        </p:txBody>
      </p:sp>
      <p:sp>
        <p:nvSpPr>
          <p:cNvPr id="9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ll these words correctly:</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ceptible, acomodate, aquire,   changable, firy, hara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swers</a:t>
            </a:r>
            <a:endParaRPr b="0" lang="en-US" sz="3600" spc="-1" strike="noStrike">
              <a:solidFill>
                <a:srgbClr val="006666"/>
              </a:solidFill>
              <a:latin typeface="Arial"/>
            </a:endParaRPr>
          </a:p>
        </p:txBody>
      </p:sp>
      <p:sp>
        <p:nvSpPr>
          <p:cNvPr id="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ceptable, accommodate, acquire,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angeable, fiery, haras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reewrite</a:t>
            </a:r>
            <a:endParaRPr b="0" lang="en-US" sz="3600" spc="-1" strike="noStrike">
              <a:solidFill>
                <a:srgbClr val="006666"/>
              </a:solidFill>
              <a:latin typeface="Arial"/>
            </a:endParaRPr>
          </a:p>
        </p:txBody>
      </p:sp>
      <p:sp>
        <p:nvSpPr>
          <p:cNvPr id="9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min</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your most prized possession? If your house was on fire what is one object you would try to save? (Assume your family is safe and you have time to grab something.)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ocabulary</a:t>
            </a: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tch the following words to their synonym:</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ecept                   doleful</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alutary                  maxim</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athing                  curativ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ourge                   harsh</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pulchral                be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swers</a:t>
            </a: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ecept                     maxi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alutary                    curativ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athing                    harsh</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ourge                     be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pulchral                  doleful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KAM</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0000"/>
          </a:bodyPr>
          <a:p>
            <a:pPr marL="308520" indent="-30852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ork on your bag book reports. Due at the end of the class period. </a:t>
            </a:r>
            <a:endParaRPr b="0" lang="en-US" sz="2900" spc="-1" strike="noStrike">
              <a:solidFill>
                <a:srgbClr val="000000"/>
              </a:solidFill>
              <a:latin typeface="Verdana"/>
            </a:endParaRPr>
          </a:p>
          <a:p>
            <a:pPr marL="3085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08520" indent="-30852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minder:</a:t>
            </a:r>
            <a:endParaRPr b="0" lang="en-US" sz="2900" spc="-1" strike="noStrike">
              <a:solidFill>
                <a:srgbClr val="000000"/>
              </a:solidFill>
              <a:latin typeface="Verdana"/>
            </a:endParaRPr>
          </a:p>
          <a:p>
            <a:pPr marL="3085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objects that symbolize the book, and explanation of each object.</a:t>
            </a:r>
            <a:endParaRPr b="0" lang="en-US" sz="2900" spc="-1" strike="noStrike">
              <a:solidFill>
                <a:srgbClr val="000000"/>
              </a:solidFill>
              <a:latin typeface="Verdana"/>
            </a:endParaRPr>
          </a:p>
          <a:p>
            <a:pPr marL="3085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ne side-1 par about your groups opinion of the book.</a:t>
            </a:r>
            <a:endParaRPr b="0" lang="en-US" sz="2900" spc="-1" strike="noStrike">
              <a:solidFill>
                <a:srgbClr val="000000"/>
              </a:solidFill>
              <a:latin typeface="Verdana"/>
            </a:endParaRPr>
          </a:p>
          <a:p>
            <a:pPr marL="3085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ther side-1 par about the character you found most sympathetic and wh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3:22:10Z</dcterms:created>
  <dc:creator>rebecca</dc:creator>
  <dc:description/>
  <dc:language>en-US</dc:language>
  <cp:lastModifiedBy>rebecca</cp:lastModifiedBy>
  <dcterms:modified xsi:type="dcterms:W3CDTF">2009-03-17T14:32:44Z</dcterms:modified>
  <cp:revision>2</cp:revision>
  <dc:subject/>
  <dc:title>DOL</dc:title>
</cp:coreProperties>
</file>